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91AF-D9D8-49A0-A46B-962F0D8191C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2974-8DF1-4DC1-AD44-C8BFC465413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2B2C-ED28-45DC-81F2-DE23585CB87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98A7-57A1-47F3-AD25-6CC48F372AD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0D42-C7A8-4E1F-966F-E32CC30586C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F1A-F61C-4534-AACD-40A81EB9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EB4-06B8-411F-A30A-70945231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965-9492-443A-B2A8-8F95435E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429C-D3ED-4169-B6F1-C8379A53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1AAD-59C0-4908-B4EE-C920DC8B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8C52-47C5-443C-B1FB-58E3F56B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E972-42C7-48DA-9569-F3AC5A2D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EAAF-71DE-4FCA-B51F-A1EBC104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F48F-3B40-411F-BAE1-6DD9E99B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D68A-1D1E-4CAE-AD71-7FE35CB7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287F-239A-4AF1-B143-05362B80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5FF6-6E50-4016-B402-5D2937D3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BC05-B2FF-4CAF-8FB9-188CCC7E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9F3D-9636-40E8-BD80-46D106F3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1294-39B8-4809-A39F-17B36E74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909B-A3D5-42C7-9EAA-B769FE8E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FA03-98A9-4035-8830-12154E5B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4BDA2-507A-4E19-99D0-A818B14A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26D21-0859-487F-B8BA-AD59CFF6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E779F-0A31-4EEA-A32E-BBA69F4A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0FCAC-E213-4969-92F5-3297DAA4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54103-ABBB-47FE-85F2-C036379A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6ED-7307-4EA0-BB00-5BBBF124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E52BB-1D84-40A2-BAF5-0C379FA2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102BB-7820-4D03-8111-22F36230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72EE2-7FD6-427F-850D-64092CF0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0BF8D-2583-4A57-8919-3693AE65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4EEB-40EB-4CB4-895E-62FBB5EE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FFF4E-5AC1-48FD-AB50-DCC079DF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76611-FB42-4672-A9DE-B2516346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83590-9A79-4F07-B3AB-4BAE6C8C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CDDC6-4E7B-4999-B827-616DA8B9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E9DCB-B886-4F2E-8D02-2809DB6F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605-E971-419F-A38B-5F8F0F60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209D8-8279-4B09-A1FC-5CCE6698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718AA-0EF7-4352-9E9F-6AC76E41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1E976-FAB0-4746-94F7-B4FBE09E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067FC-F238-451D-BC04-3ABEB317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2B2EA-402D-422D-BE12-91FB6FA9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AADC2-1925-4A7F-912B-9ECE85BC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43ACF-CEFC-4732-A643-D9B23A6B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35A87-9DD4-49A6-B1BA-106DB623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25721-8B3E-4D21-BEEA-EEE6B731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B52-5D07-4DAF-A238-672C1134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DF7-9C47-461B-A94D-9234D867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4BB-333A-475F-A473-642C1EA3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6CC0-737D-42CE-AB3E-A27C569D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018-3A6A-400B-8A87-71E11E00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d6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5951-1930-4032-964F-AA7EDD5F1E89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d6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77ED-5A09-4317-A149-9F96476824DA}" type="slidenum"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d6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DBC3-DED5-42FC-8245-238F3480328E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d6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60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BB2F-87A6-4727-95F2-EB99DAB231FE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multiplication.com/flashgames/GrannyPrix.htm" TargetMode="External"/><Relationship Id="rId4" Type="http://schemas.openxmlformats.org/officeDocument/2006/relationships/hyperlink" Target="http://images.google.com/imgres?imgurl=http://ecx.images-amazon.com/images/I/41qj6B7qC1L._SL500_AA280_.jpg&amp;imgrefurl=http://www.amazon.co.uk/Racing-granny-wheelchair-game-scalextrix/dp/B001602AII&amp;usg=__p4E0Ok33XJ_ZqV4XFEx5edvx4_4=&amp;h=280&amp;w=280&amp;sz=13&amp;hl=en&amp;start=2&amp;sig2=lEywJHizQX2aDY51SI5Y7g&amp;um=1&amp;itbs=1&amp;tbnid=HWv2x_tnui-r5M:&amp;tbnh=114&amp;tbnw=114&amp;prev=/images%3Fq%3Dcool%2Bgranny%2Bin%2Bwheelchair%26hl%3Den%26safe%3Dactive%26rls%3Dcom.microsoft:*%26um%3D1&amp;ei=m1wcS9iiOJiekQXrjt29A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-6480" y="-633240"/>
            <a:ext cx="304920" cy="852480"/>
          </a:xfrm>
          <a:prstGeom prst="rect">
            <a:avLst/>
          </a:prstGeom>
          <a:ln w="0">
            <a:noFill/>
          </a:ln>
        </p:spPr>
      </p:pic>
      <p:pic>
        <p:nvPicPr>
          <p:cNvPr id="214" name="Rectangle 3" descr=""/>
          <p:cNvPicPr/>
          <p:nvPr/>
        </p:nvPicPr>
        <p:blipFill>
          <a:blip r:embed="rId2"/>
          <a:stretch/>
        </p:blipFill>
        <p:spPr>
          <a:xfrm>
            <a:off x="993600" y="212760"/>
            <a:ext cx="7296480" cy="149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G:\Students\Teacher to Student\Room  4\2009 PHOTOS\Class pics 09\nick r 010.JPG"/>
          <p:cNvPicPr/>
          <p:nvPr/>
        </p:nvPicPr>
        <p:blipFill>
          <a:blip r:embed="rId3"/>
          <a:srcRect l="14893" t="0" r="14390" b="0"/>
          <a:stretch/>
        </p:blipFill>
        <p:spPr>
          <a:xfrm>
            <a:off x="3000240" y="1785960"/>
            <a:ext cx="3287880" cy="3057480"/>
          </a:xfrm>
          <a:prstGeom prst="rect">
            <a:avLst/>
          </a:prstGeom>
          <a:ln w="0">
            <a:noFill/>
          </a:ln>
        </p:spPr>
      </p:pic>
      <p:pic>
        <p:nvPicPr>
          <p:cNvPr id="216" name="Rectangle 5" descr=""/>
          <p:cNvPicPr/>
          <p:nvPr/>
        </p:nvPicPr>
        <p:blipFill>
          <a:blip r:embed="rId4"/>
          <a:stretch/>
        </p:blipFill>
        <p:spPr>
          <a:xfrm>
            <a:off x="1725480" y="5291280"/>
            <a:ext cx="6328080" cy="1139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-6480" y="-60480"/>
            <a:ext cx="238320" cy="19368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2" descr=""/>
          <p:cNvPicPr/>
          <p:nvPr/>
        </p:nvPicPr>
        <p:blipFill>
          <a:blip r:embed="rId2"/>
          <a:stretch/>
        </p:blipFill>
        <p:spPr>
          <a:xfrm>
            <a:off x="1792440" y="96840"/>
            <a:ext cx="5241600" cy="12081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"/>
          <p:cNvSpPr/>
          <p:nvPr/>
        </p:nvSpPr>
        <p:spPr>
          <a:xfrm>
            <a:off x="642960" y="1357200"/>
            <a:ext cx="7643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8119"/>
                </a:solidFill>
                <a:uFillTx/>
                <a:latin typeface="Arial"/>
                <a:hlinkClick r:id="rId3"/>
              </a:rPr>
              <a:t>http://www.multiplication.com/flashgames/GrannyPrix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ranny Prix is a multiplication game. The aim of the game is to answer the question the fastest so your granny goes faster.  To play all you have to do is 1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customise your granny  and then it is a granny race and you just have to answer the question and try to answer them the fastest to win. It is very fun and funny watching  granny’s racing. I would recommend this game for  age 9-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http://t2.gstatic.com/images?q=tbn:HWv2x_tnui-r5M:http://ecx.images-amazon.com/images/I/41qj6B7qC1L._SL500_AA280_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-49320" y="-109440"/>
            <a:ext cx="244440" cy="195120"/>
          </a:xfrm>
          <a:prstGeom prst="rect">
            <a:avLst/>
          </a:prstGeom>
          <a:ln w="0">
            <a:noFill/>
          </a:ln>
        </p:spPr>
      </p:pic>
      <p:pic>
        <p:nvPicPr>
          <p:cNvPr id="222" name="Rectangle 3" descr=""/>
          <p:cNvPicPr/>
          <p:nvPr/>
        </p:nvPicPr>
        <p:blipFill>
          <a:blip r:embed="rId2"/>
          <a:stretch/>
        </p:blipFill>
        <p:spPr>
          <a:xfrm>
            <a:off x="128520" y="109440"/>
            <a:ext cx="8972640" cy="11034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5"/>
          <p:cNvSpPr/>
          <p:nvPr/>
        </p:nvSpPr>
        <p:spPr>
          <a:xfrm>
            <a:off x="1000080" y="3714840"/>
            <a:ext cx="71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yonce Giselle Knowles is a famous singer. She started singing when she was 7 years of age. Beyonce was bourn on the 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of September 1981, she is 28 years old. She was bourn in Houston, Texas. Beyonce is allergic to perfume  so her and Tommy Hilfiger have teamed up to make “True Star” a perfume that captures the essence of an icon.  Her favourite flower is called “bird of paradise” and her favourite ice-cream is butter pecan! Beyonce HATES cooking and has a cat named Master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http://t1.gstatic.com/images?q=tbn:lVS1S5iw7N5VcM:http://www.accesshollywood.com/content/images/96/230x306/96244_beyonce-takes-the-mic-in-madison-square-garden-in-new-york-city-on-june-21-2009.jpg"/>
          <p:cNvPicPr/>
          <p:nvPr/>
        </p:nvPicPr>
        <p:blipFill>
          <a:blip r:embed="rId3"/>
          <a:stretch/>
        </p:blipFill>
        <p:spPr>
          <a:xfrm>
            <a:off x="3286080" y="1000080"/>
            <a:ext cx="20718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-6480" y="-60480"/>
            <a:ext cx="244440" cy="193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33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KFC"/>
          <p:cNvPicPr/>
          <p:nvPr/>
        </p:nvPicPr>
        <p:blipFill>
          <a:blip r:embed="rId3"/>
          <a:stretch/>
        </p:blipFill>
        <p:spPr>
          <a:xfrm>
            <a:off x="7210440" y="0"/>
            <a:ext cx="1933560" cy="9907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6"/>
          <p:cNvSpPr/>
          <p:nvPr/>
        </p:nvSpPr>
        <p:spPr>
          <a:xfrm>
            <a:off x="1071720" y="1857240"/>
            <a:ext cx="7358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.F.C stands for Kentucky Fried Chicken. It originated in Corbin and was opened by Harland Sanders. The first K.F.C. opened in 1930 . Every year K.F.C earns about $2million dollars profit. At the moment K.F.C is owned by Jermaine Higgins . K.F.C. is a very successful busi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-6480" y="-109440"/>
            <a:ext cx="238320" cy="1951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0" y="1521720"/>
            <a:ext cx="914400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o are the main characters in the story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umpelstiltski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iller’s daugh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000000"/>
                </a:solidFill>
                <a:uFillTx/>
                <a:latin typeface="Comic Sans MS"/>
              </a:rPr>
              <a:t>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re does the story take place?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Palace</a:t>
            </a:r>
            <a:r>
              <a:rPr b="1" lang="en-A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"magic" in the sto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umpelstiltskin turns straw into gol</a:t>
            </a:r>
            <a:r>
              <a:rPr b="0" lang="en-A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good deed happening in the stor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umpelstiltskin turns the straw into gold for the miler’s daugh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bad or evil deed happening in the sto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umpelstiltskin took  the miler’s daughter away from 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re a conflict between any of the characters in the sto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Between the miller’s daughter and Rumpelstiltsk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is the conflict resol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he miller’s daughter guessed Rumpelstiltskin’s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2"/>
          <a:stretch/>
        </p:blipFill>
        <p:spPr>
          <a:xfrm>
            <a:off x="1547640" y="328680"/>
            <a:ext cx="596268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22:51:44Z</dcterms:created>
  <dc:creator>Education</dc:creator>
  <dc:description/>
  <dc:language>en-US</dc:language>
  <cp:lastModifiedBy>Education</cp:lastModifiedBy>
  <dcterms:modified xsi:type="dcterms:W3CDTF">2009-12-07T01:50:12Z</dcterms:modified>
  <cp:revision>35</cp:revision>
  <dc:subject/>
  <dc:title>Web Quest</dc:title>
</cp:coreProperties>
</file>